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A41D-F714-4718-ACBD-794961277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2DAB-829D-4564-9404-077C24CC3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8FEA-1A75-4A3F-95B5-317C02188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4183-89CA-4292-82B0-8C80F1AA9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7F77-6A05-4570-9781-91896AE23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F1EB-CCC9-46AE-A2F2-0053EC503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2C98-2096-4CB2-9513-098AF8B6B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4FE7-1FC3-4384-AA02-671F28F8A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1B7C-B9F4-432A-A279-AA3869E6B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0575-24EB-4A0B-85AF-94A14808A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5792-BEA3-4895-BBBB-8E44FAABF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83B7-9170-4C75-9DDE-BB69DA7EB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9BBDA-93A0-4DEE-835D-7F492BDA35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0" spc="-1" strike="noStrike">
                <a:solidFill>
                  <a:srgbClr val="000000"/>
                </a:solidFill>
                <a:latin typeface="Times New Roman"/>
              </a:rPr>
              <a:t>Woody Alle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692360" y="4076280"/>
            <a:ext cx="6765840" cy="20192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0" spc="-1" strike="noStrike">
                <a:solidFill>
                  <a:srgbClr val="ff3399"/>
                </a:solidFill>
                <a:latin typeface="Forte"/>
              </a:rPr>
              <a:t>Disfrùtenlo….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657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unos matrimonios acaban bien, otros duran toda la vid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672000" y="762120"/>
            <a:ext cx="1800000" cy="18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657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 matrimonio es como las libretas de ahorro: de tanto meter y sacar se pierde el interé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672000" y="762120"/>
            <a:ext cx="18000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81080" y="3657600"/>
            <a:ext cx="5181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 diabético no puede ir de luna de mie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672000" y="762120"/>
            <a:ext cx="1800000" cy="22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3657600"/>
            <a:ext cx="6858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ando todo sube, lo único que baja es la ropa interio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672000" y="762120"/>
            <a:ext cx="180000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3657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y que trabajar ocho horas y dormir ocho horas, pero no las misma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672000" y="762120"/>
            <a:ext cx="180000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42720" y="3657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s japoneses no miran, sospecha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672000" y="762120"/>
            <a:ext cx="1800000" cy="22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6572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Cuál es el animal que después de muerto da muchas vueltas?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El pollo asad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672000" y="762120"/>
            <a:ext cx="1800000" cy="21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576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ando un médico se equivoca, lo mejor es echarle tierra al asunt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672000" y="762120"/>
            <a:ext cx="180000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81080" y="3657600"/>
            <a:ext cx="5181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música japonesa es una tortura chin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672000" y="762120"/>
            <a:ext cx="1800000" cy="24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3657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 eco siempre dice la última palabr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672000" y="762120"/>
            <a:ext cx="18000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47920" y="3657600"/>
            <a:ext cx="6248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s ventajas del nudismo saltan a la vist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672000" y="762120"/>
            <a:ext cx="1800000" cy="23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52480" y="3657600"/>
            <a:ext cx="5639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 los aviones el tiempo se pasa voland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672000" y="762120"/>
            <a:ext cx="1800000" cy="21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3657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s mosquitos mueren entre aplauso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672000" y="762120"/>
            <a:ext cx="180000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657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 padre vendió la farmacia porque no había más remedi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672000" y="762120"/>
            <a:ext cx="1800000" cy="21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47920" y="3657600"/>
            <a:ext cx="6248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s japoneses quieren abrirle los ojos al mund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672000" y="762120"/>
            <a:ext cx="180000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36576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reglar los problemas económicos es fácil, lo único que se necesita es diner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672000" y="762120"/>
            <a:ext cx="1800000" cy="23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47920" y="3657600"/>
            <a:ext cx="6248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fruta el día hasta que un imbécil te lo arruin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672000" y="762120"/>
            <a:ext cx="1800000" cy="22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3657240"/>
            <a:ext cx="76197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amistad es como la mayonesa: cuesta un huevo y hay que tratar que no se cort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672000" y="762120"/>
            <a:ext cx="1800000" cy="20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65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zlo bien y no mires con quie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672000" y="762120"/>
            <a:ext cx="1800000" cy="21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657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 curioso que se le denomine sexo oral a la práctica sexual en la que menos se puede habla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672000" y="762120"/>
            <a:ext cx="1800000" cy="22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3657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s canas ya no se respetan, se tiñe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672000" y="762120"/>
            <a:ext cx="180000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657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marihuana causa amnesia y... otras cosas que no me acuerd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672000" y="762120"/>
            <a:ext cx="1800000" cy="24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342864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l mago hizo un gesto y desapareció el hambre, hizo otro gesto y desapareció la injusticia, hizo otro gesto y desapareció la guerra. El político hizo un gesto y desapareció el mag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672000" y="762120"/>
            <a:ext cx="1800000" cy="20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65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Bigamo: idiota al cuadrad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672000" y="762120"/>
            <a:ext cx="180000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Forte"/>
              </a:rPr>
              <a:t>Hasta la próxima. . . . 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Forte"/>
              </a:rPr>
              <a:t>             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657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o quien ha comido ajo puede darnos una palabra de alient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672000" y="762120"/>
            <a:ext cx="1800000" cy="23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3657600"/>
            <a:ext cx="71625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ir es como dormir, pero sin levantarse a hacer pi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672000" y="762120"/>
            <a:ext cx="180000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657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inactividad sexual es peligrosa, produce cuerno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672000" y="762120"/>
            <a:ext cx="180000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99920" y="365760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y en día la fidelidad solo se ve en los equipos de sonid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672000" y="762120"/>
            <a:ext cx="180000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2720" y="3657240"/>
            <a:ext cx="84582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ay estudiantes que les apena ir al hipódromo y ver que hasta los caballos logran terminar su carrer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672000" y="762120"/>
            <a:ext cx="1800000" cy="22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657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 negocio más expuesto a la quiebra es el de la cristalerí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672000" y="762120"/>
            <a:ext cx="180000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4T22:25:06Z</dcterms:created>
  <dc:creator>Iñaki</dc:creator>
  <dc:description/>
  <dc:language>en-US</dc:language>
  <cp:lastModifiedBy>Pedro Hilario Silva</cp:lastModifiedBy>
  <dcterms:modified xsi:type="dcterms:W3CDTF">2010-11-27T18:30:01Z</dcterms:modified>
  <cp:revision>8</cp:revision>
  <dc:subject/>
  <dc:title>WOODY ALLEN</dc:title>
</cp:coreProperties>
</file>